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2AD-1186-47F9-A41B-A60C6793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336-56FD-4310-94CA-DCB2A0B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0A6-5A82-4363-8E7E-F0218AE3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60A-6688-4C2B-8C4D-9F780A7C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CBCF-D13C-4D2F-90BF-A7BFB142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A67-FF2E-41A2-BF46-8ACBFB6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02AC-F84D-4A2E-9337-7C5AB09D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5A6-86D5-4657-A73D-E25E3295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93CA-BFDB-45E9-B354-E9E3328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442-DB70-4DD8-815A-C57452B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524C-3B00-4CCA-9370-B87871C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AEC-AC24-40B6-BB1F-25BA2400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C54-8BBE-42F1-93F7-E263102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839-7763-482B-9D59-4C1E526A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349-F19B-46E5-A0F8-EEAF0A5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5EA0-5896-4EC2-A310-5A04A955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508-4794-4D0C-A32E-C8CB134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4F4-5E3E-4499-BEFC-7951A99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2F9-F651-4295-B143-70B85AE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BB0-AE80-466D-8273-D00981AA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0A1-4F08-4548-BB42-5DEBC5B6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B19-18E1-4EBE-AC36-FB37776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1CE-B235-4883-BB7A-C07373D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9C0-E01E-457E-89A5-7D08CCF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4351-C727-43DE-B88E-01BF72DB0E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05A-CD82-4BF2-93F9-0DC7D2A8A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clear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onvenient to us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fied mass unit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, to express m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u = 1.660 55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definition that the mass of one atom of C-12 is exactly 12 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s can also be expressed in MeV/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m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u = 931.494 MeV/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mmary of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017800"/>
          <a:ext cx="8269200" cy="4235400"/>
        </p:xfrm>
        <a:graphic>
          <a:graphicData uri="http://schemas.openxmlformats.org/drawingml/2006/table">
            <a:tbl>
              <a:tblPr/>
              <a:tblGrid>
                <a:gridCol w="1752480"/>
                <a:gridCol w="2819520"/>
                <a:gridCol w="2173320"/>
                <a:gridCol w="15238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V/c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26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72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8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5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86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9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109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486x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Size of the Nucle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4151160"/>
            <a:ext cx="8574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investigated by Rutherford in scattering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found an expression for how close an alpha particle moving toward the nucleus can come before being turned around by the Coulomb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KE of the particle must be completely converted to 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81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ze of the Nucleu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 gives an upper limit for the size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therford determined th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gold, he found d = 3.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ilver, he found d = 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h small lengths are often expressed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tome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1 f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a fer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58880" y="3352680"/>
          <a:ext cx="186552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3352680"/>
                    <a:ext cx="18655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ze of Nucleus, Curr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time of Rutherford, many other experiments have conclud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nuclei are approximately spher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erage radius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1.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45120" y="2224080"/>
            <a:ext cx="3809880" cy="37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2209680" y="4876920"/>
          <a:ext cx="1551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4876920"/>
                    <a:ext cx="1551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 of Nuc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volume of the nucleus (assumed to be spherical) is directly proportional to the total number of nucle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uggests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ll nuclei ha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arly the same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cleons combine to form a nucleus as though they were tightly packed sphe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ria Goeppert-May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06 – 197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known for her development of shell model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196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6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Stabil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very large repulsive electrostatic forces between prot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forces should cause the nucleus to fly a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clei are stable because of the presence of another, short-range force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 attractive force that acts between all nuclear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clear attractive force is stronger than the Coulomb repulsive force at the short ranges within the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Stabil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nuclei are most stable if N =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vy nuclei are most stable when   N &gt;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number of protons increase, the Coulomb force increases and so more nucleons are needed to keep the nucleus s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uclei are stable when Z &gt; 8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17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energy of the bound system (the nucleus) is less than the combined energy of the separated nucle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difference in energy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ing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nucl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be thought of as the amount of energy you need to add to the nucleus to break it apart into separated protons and neu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Milestones in the Development of Nuclear Physics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96 – the birth of nuclear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querel discovered radioactivity in uranium compo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therford showed the radiation had thre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  (He nucle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(elect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mma (high-energy phot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 per Nucle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1978200"/>
            <a:ext cx="579132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inding Energy Not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pt for light nuclei, the binding energy is about 8 MeV per nucle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ve peaks in the vicinity of A = 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i with mass numbers greater than or less than 60 are not as strongly bound as those near the middle of the periodic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ve is slowly varying at A &gt; 4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uggests that the nuclear force satu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rticular nucleon can interact with only a limited number of other nucle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rie Curi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7 – 19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new radio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physics in 19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Chemistry in 19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18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adioacti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spontaneous emission of radi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riments suggested that radioactivity was the result of the decay, or disintegration, of unstable nucl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oactivity – Types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ypes of radiation can be e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ticles are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 nucl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rticles are either electrons or positr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ositron is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tipartic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electr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similar to the electron except its charge is +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mma 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rays” are high energy ph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tinguishing Type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dioactive beam is directed into a region with a magnetic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mma particles carry no charge and they are not def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lpha particles are deflected up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a particles are deflected down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sitron would be deflected up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1778040"/>
            <a:ext cx="45691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netrating Ability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pha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ely penetrate a piece of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ta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enetrate a few mm of alumin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enetrate several cm of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Decay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articles that decay in a given time is proportional to the total number of particles in a radioactive s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N = -λ N Δ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λ is 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decay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and determines the rate at which the material will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decay 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, R, of a sample is defined as the number of decay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65400" y="5688000"/>
          <a:ext cx="222408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5688000"/>
                    <a:ext cx="22240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Cur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cay curve follows the eq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λ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half-li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is also a useful par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e half-life is defined as the time it takes for half of any given number of radioactive nuclei to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61040" y="1905120"/>
            <a:ext cx="3109680" cy="48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2057400" y="5638680"/>
          <a:ext cx="237348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638680"/>
                    <a:ext cx="23734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nit of activity, R,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urie, 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i = 3.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ays/seco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 unit of activity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cquerel, B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q = 1 decay / seco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1 Ci = 3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commonly used units of activity are the mCi and the µ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Mileston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11 Rutherford, Geiger and Marsden performed scattering experime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the point mass nature of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uclear fo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as a new type of fo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19 Rutherford and coworkers first observed nuclear reactions in which naturally occurring alpha particles bombarded nitrogen nuclei to produce oxy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lph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nucleus emits an alpha particle it loses two protons and two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decreases by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decreases by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creases by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rent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ughter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86200" y="419112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lpha Decay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ay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2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lf life for this decay is 1600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 mass is converted into kinetic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mentum of the two particles is equal and oppo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23880" y="2514600"/>
                <a:ext cx="2984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R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98880" y="2057400"/>
            <a:ext cx="4168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– General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one element changes into another element, the proces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ontaneous dec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ansmu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mass numbers, A, must be the same on both sides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atomic numbers, Z, must be the same on both sides of th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mass-energy and conservation of momentum must 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uring beta decay, the daughter nucleus has the same number of nucleons as the parent, but the atomic number is changed by 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mbolical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33720" y="4800600"/>
                <a:ext cx="2577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mission of the electron is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cleus contains protons and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ccurs when a neutron is transformed into a proton and an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must be conser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 – Electron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ergy released in the decay process should almost all go to kinetic energy of the electron (K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s showed that few electrons had this amount of kinetic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45120" y="2343240"/>
            <a:ext cx="3809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utrino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ount for this “missing” energy, in 1930 Pauli proposed the existence of another parti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ico Fermi later named this particle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eutr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ties of the neutr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ro electrical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s much smaller than the electron, probably not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in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weak interaction with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ta Decay – Completed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symbol for the 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 symbol for the anti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ummarize, in beta decay, the following pairs of particles are emit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lectron and an anti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sitron and a neutr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2590920"/>
                <a:ext cx="2743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Pr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X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27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mma Dec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ma rays are given off when an excited nucleus “falls” to a lower energy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the process of electron “jumps” to lower energy states and giving off phot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hotons are called gamma rays, very high energy relative to l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xcited nuclear states result from “jumps” made by a proton or neutr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xcited nuclear states may be the result of violent collision or more likely of an alpha or beta e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mma Decay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 of a decay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decay is a beta e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step is a gamma e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* indicates the Carbon nucleus is in an excite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mma emission doesn’t change either A or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286000" y="3276720"/>
                <a:ext cx="292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B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lestone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2 Cockcroft and Walton first used artificially accelerated protons to produce nuclear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2 Chadwick discovered the 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3 the Curies discovered artificial radio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38 Hahn and Strassman discovered nuclear f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2 Fermi and collaborators achieved the first controlled nuclear fission re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rico Ferm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1 – 19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d transuranic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y of beta dec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-electron theory of met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’s first fission reactor (194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bel Prize in 19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46560" y="1828800"/>
            <a:ext cx="369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es of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bon D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 decay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used to date organic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tio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to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oke det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ization type smoke detectors use a radioactive source to ionize the air in a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oltage and current are maintain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moke enters the chamber, the current is decreased and the alarm sou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Uses of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on pol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on is an inert, gaseous element associated with the decay of ra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resent in uranium mines and in certain types of rocks, bricks, etc that may be used in home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also come from the ground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atural Radio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cation of nucl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stable nuclei found in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 rise 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atural radio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i produced in the laboratory through nuclear re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hibi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ificial radioa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eries of natural radioactivity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n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able 29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cay Seri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 of </a:t>
            </a:r>
            <a:r>
              <a:rPr b="0" lang="en-US" sz="4400" spc="-1" strike="noStrike" baseline="30000">
                <a:solidFill>
                  <a:srgbClr val="333399"/>
                </a:solidFill>
                <a:latin typeface="Verdana"/>
              </a:rPr>
              <a:t>232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starts with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through a series of alpha and beta dec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stable isotope of lead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0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49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ucture of nuclei can be changed by bombarding them with energetic partic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uclear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with nuclear decays, the atomic numbers and mass numbers must balance on both sides of the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uclear Reactions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pha particle colliding with nitroge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lancing the equation allows for the identification of 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 the reaction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57400" y="3048120"/>
          <a:ext cx="39625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048120"/>
                    <a:ext cx="3962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286000" y="4724280"/>
          <a:ext cx="34034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724280"/>
                    <a:ext cx="34034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133720" y="5867280"/>
          <a:ext cx="4267080" cy="6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867280"/>
                    <a:ext cx="42670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 Valu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must also be conserved in nuclear re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ergy required to balance a nuclear reaction is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Q valu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re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xothermic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mass “loss” in the re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release of ener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is posi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ndothermic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is a “gain” of mass in the re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ergy is needed, in the form of kinetic energy of the incoming parti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is negativ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reshold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nserve both momentum and energy, incoming particles must have a minimum amount of kinetic energy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reshold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incoming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mass of the target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energy is less than this amount, the reaction cannot occ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62000" y="3552840"/>
          <a:ext cx="316404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3552840"/>
                    <a:ext cx="31640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Damage in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absorbed by matter can cause d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and type of damage depend on many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and energy of the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of the absorbing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damage in biological organisms is primarily due to ionization effects in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ization disrupts the normal functioning of th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rnest Rutherfor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71 – 19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of atoms being broken a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ied radio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bel prize in 19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1855800"/>
            <a:ext cx="3375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Dama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omatic da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radiation damage to any cells except reproductive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lead to cancer at high radiation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seriously alter the characteristics of specific org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enetic da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ffects only reproductive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lead to defective offsp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Radiation Expo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entg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[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ionizing radiation that will produce 2.0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 pairs in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ir under standard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radiation that deposits 8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 of energy into 1 kg of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i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sorb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amount of radiation that deposits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 of energy into 1 kg of absorbing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B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a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logic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ct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rad of x-radiation or gamma radiation that produces the same biological damage as 1 rad of the radiation being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type of particle which the rad itself does n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entg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valent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d as the product of the dose in rad and the RBE fa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e in rem = dose in rad X R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Leve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ural sources – rocks and soil, cosmic 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0.13 rem/y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per limit suggested by US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 rem/y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es background and medical expo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rem/yr for whole-bod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body parts can withstand higher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gestion or inhalation is most danger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has been used to sterilize medical equi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destroy bacteria, worms and insects in f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ne, cartilage, and skin used in graphs is often irradiated before grafting to reduce the chances of 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active particles can be used to trace chemicals participating in various re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to test thyroid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T sc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p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es pictures with greater clarity and detail than traditional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ne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on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nucleus having a magnetic moment is placed in an external magnetic field, its moment processes about the magnetic field with a frequency that is proportional to th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s between energy states can be detected electron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Detec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476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Geiger coun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the most common form of device used to detect rad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uses the ionization of a medium as the detection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gamma ray or particle enters the thin window, the gas is ion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leased electrons trigger a current pu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is detected and triggers a counter or spea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21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miconductor Diode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verse biased p-n 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particle passes through the junction, a brief pulse of current is created and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ntillation coun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solid or liquid material whose atoms are easily excited b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cited atoms emit visible radiation as they return to their ground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multipli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hotons can be converted into an electrical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 det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ous devices used to view the tracks or paths of charged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tographic emul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plest track dete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 particles ionize the emulsion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he emulsion is developed, the track becomes vis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ud cha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ains a gas cooled to just below its condensation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ons serve as centers for conden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cles ionize the gas along their pa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ck can be viewed and photograph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Properties of Nucle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nuclei are composed of protons and neu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ception is ordinary hydrogen with just a prot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tomic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Z, equals the number of prot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eutron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, is the number of neutr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, is the number of nucleons in the nucle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= Z + 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cleon is a generic term used to refer to either a proton or a neutr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ass number is not the same as the ma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tector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 detectors, c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bble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liquid near its boiling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ns produced by incoming particles leave tracks of bub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acks can be photograph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e Cha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thousands of closely spaced parallel w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ires collect electrons created by the passing ionizing parti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cond grid allows the position of the particle to be determ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provide electronic readout to a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fu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. Concepts, 6,8,10,1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1,5,6,7,9,15,18,20,25,26,27,31,33,34,38,39,40,42,4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ymbolis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the chemical symbol of the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number is 2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omic number is 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13 prot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14 (27 – 13) neutr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Z may be omitted since the element can be used to determine 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1752480"/>
                <a:ext cx="121896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19320" y="3886200"/>
                <a:ext cx="1347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clei of all atoms of a particular element must contain the same number of prot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may contain varying numbers of neutr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lement have the same Z but differing N and A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33920" y="5486400"/>
          <a:ext cx="3768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486400"/>
                    <a:ext cx="3768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ton has a single positive charge, +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has a single negative charge, -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utron has no ch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s it difficult to det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 = 1.602 177 3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35:57Z</dcterms:created>
  <dc:creator>Marilyn Akins</dc:creator>
  <dc:description/>
  <dc:language>en-US</dc:language>
  <cp:lastModifiedBy>DCPS</cp:lastModifiedBy>
  <dcterms:modified xsi:type="dcterms:W3CDTF">2007-04-13T18:48:08Z</dcterms:modified>
  <cp:revision>28</cp:revision>
  <dc:subject/>
  <dc:title>Chapter 29</dc:title>
</cp:coreProperties>
</file>